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DF6E-4B90-418D-8329-686EA9B35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5FD6-0D34-47CB-A40E-254C44B6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E869-742A-4086-B2AB-03F29B1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AA87-00C4-4BBE-BF19-6844465E0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F3838-CDD8-455E-83D1-7889CBDFC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ED25A-9219-466D-91CB-AFD6FB32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F1428-10AC-4216-875A-939350FF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B6333-2AAE-4397-AD26-02E62C7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1C80-D3FE-4978-B9DE-B41EDBC3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600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1E6B2-5C63-4F21-B3DE-81FD5614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1142-BE03-4701-99FA-F76466C0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7AEB-8BBF-461C-BEA9-954AC9F7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E229E-71EE-46B9-882B-FD3D852E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A31B7-7661-4F52-B330-DF228A5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19A79-4DDD-4294-BC57-2218684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298F5-E8D0-4D33-9653-1713185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E5D94-1C89-4049-9FEA-142468C09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7A7236-24BB-45B1-930F-6D59F645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0AE0B-61DB-49A4-A624-FEE12D17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9A109-A90B-4622-A857-23401EC8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956A4-2B15-4394-9867-6FE8DABB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9BFCA-3393-41EE-8611-4B1F5A55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0828-D960-4F7E-BC30-0739A1C6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600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0FD53-4BE6-4003-9ECF-17785A77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12B3C-5966-47EA-824D-4315A27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D0118D-F8BB-4237-9040-0A2AE6F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CA6D9-2D75-422F-9BAE-96055D2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94CFE-F384-42D6-8F69-FB767139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928EB-9A8D-4BB0-A084-1F36C165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24B60-9AFD-4A5E-906A-F0936C8A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D340-BAB6-49FF-A6FE-7FB0F99C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0FA9-85A0-4FB5-B27E-0CD43DD4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600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A19A-F8C2-4713-9EC2-19010A1D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3E08-4340-4A9C-BBDC-CC34EC9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5661-1D3A-4658-836B-8FAAD826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B64F-A4E2-43B4-B19E-50D4AE9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-32247000"/>
            <a:ext cx="4037040" cy="344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igh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th Outline Level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igh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inth Outline Level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igh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th Outline Level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5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3C3C-69AD-4DF3-8E30-5AC94D08D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5/15/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547B9-CCB7-4782-966C-F0D8BD68FD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6840" y="60516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6"/>
          </p:nvPr>
        </p:nvSpPr>
        <p:spPr>
          <a:xfrm>
            <a:off x="3127320" y="605160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7"/>
          </p:nvPr>
        </p:nvSpPr>
        <p:spPr>
          <a:xfrm>
            <a:off x="6556320" y="60516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82352-A38D-479B-AD4D-3372DEC27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28880" y="0"/>
            <a:ext cx="972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18360" y="0"/>
            <a:ext cx="144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94400" y="487440"/>
            <a:ext cx="2405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Comic Sans MS"/>
              </a:rPr>
              <a:t>Renee C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5840" y="4116240"/>
            <a:ext cx="2125800" cy="173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0" y="4724280"/>
            <a:ext cx="249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32280" y="365040"/>
            <a:ext cx="971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83320" y="1279440"/>
            <a:ext cx="2193840" cy="2560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675480" y="4297320"/>
            <a:ext cx="2125800" cy="201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382920" y="3657600"/>
            <a:ext cx="2286000" cy="2193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17880" y="457200"/>
            <a:ext cx="32004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out 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 live in Stantonsburg, 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 have children and grandchildr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 graduated from North Carolina Wesleyan College with a BA in Elementary Edu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74680"/>
            <a:ext cx="2125440" cy="210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57200" y="434880"/>
            <a:ext cx="2011320" cy="212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2520" y="3200400"/>
            <a:ext cx="237816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Comic Sans MS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Comic Sans MS"/>
              </a:rPr>
              <a:t>Renee C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6b6b"/>
                </a:solidFill>
                <a:latin typeface="Comic Sans MS"/>
              </a:rPr>
              <a:t>309 Saratoga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6b6b"/>
                </a:solidFill>
                <a:latin typeface="Comic Sans MS"/>
              </a:rPr>
              <a:t>Stantonsburg, N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Comic Sans MS"/>
              </a:rPr>
              <a:t>252-236-1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28880" y="0"/>
            <a:ext cx="972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8360" y="0"/>
            <a:ext cx="144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096920"/>
            <a:ext cx="2666880" cy="67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like ki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be versed in a variety of subjects, such as reading, math, science, and social studi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be highly cre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appreciate that Elementary school is where the foundation of the future sta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315200" y="7219080"/>
            <a:ext cx="819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79760" y="766800"/>
            <a:ext cx="3821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0640" y="135000"/>
            <a:ext cx="22701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Why be a teac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680" y="822240"/>
            <a:ext cx="21337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92960" y="92160"/>
            <a:ext cx="24685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be an elementary school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2240" y="500040"/>
            <a:ext cx="919080" cy="639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2520" y="1279440"/>
            <a:ext cx="256068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aching is a challenging job with many unique frustrations, but the rewards of teaching are numerable. Some of the many benefits include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Experience the Joy of Making a Differ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ave a Vocation, Not a 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Enjoy Interpersonal Inter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e a Lifelong Lear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To affect the fu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7880" y="182520"/>
            <a:ext cx="31082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Qualities of an effective tea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loves to  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demonstrates a c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ttitu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relate to his or her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willing to think outside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An effective teacher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proactive rather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An effective teacher us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variety of media in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less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97320" y="5241960"/>
            <a:ext cx="1279440" cy="976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864560" y="1084320"/>
            <a:ext cx="1096920" cy="120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594480" y="3530520"/>
            <a:ext cx="2184480" cy="131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lastPrinted>2015-05-20T00:59:01Z</cp:lastPrinted>
  <cp:revision>0</cp:revision>
  <dc:subject/>
  <dc:title/>
</cp:coreProperties>
</file>